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DD63-5335-4925-8312-DD325DD9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3EA0-DB52-4D34-823D-65B88ADD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419-6EC3-4365-8B03-93AA5BBE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30C-0A37-4FFA-BE8E-07D34FBB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EEDC-383B-4A4F-BB35-002E7DD4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2311-4604-45B7-AAA1-B85F4B99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F85C-A93D-478B-AD70-78D54885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EC05-4D47-4EF5-A28D-DEF65C64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1143-F3B2-4A9D-B754-A7B603F4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3DB6-8687-4C61-93CE-839A61C1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182E-8E34-4D62-83CD-A100EFE0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143-4E97-46B9-8E6B-9D2A15B2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8765-8E2F-43D9-A2B2-05558F88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673F-629F-4BB7-8982-E90D50D3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6057-CE1F-48F4-A762-1A734458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66EE-149A-4C39-9BEC-806EF9B1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56FC-2832-4A24-9FB3-ED772286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C94C-0149-4077-B9E0-0B79ED77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3BD-DD69-43ED-9D35-FA1230F1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B93-D7B0-41BF-BB27-49907E4A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572-5B0C-463F-BC44-D79E13F6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227-C8A0-486D-8216-25D109EB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9E1F-8301-424E-BAB2-577FCE5B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429-702F-4D33-A69F-06521A9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34A6-D173-46C5-9BA5-D11AA635FFFB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633E-3D77-4EC5-8A4E-0D8DDC2492A3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2667240" cy="4343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895480" y="5943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tasticfiction.co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95280" y="838080"/>
            <a:ext cx="64515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therwise  Know  as  Sheila  the  Grea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-1361520" y="2961360"/>
            <a:ext cx="4437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25e53"/>
                    </a:gs>
                    <a:gs pos="50000">
                      <a:srgbClr val="6eccb6"/>
                    </a:gs>
                    <a:gs pos="100000">
                      <a:srgbClr val="325e53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By: Judy Blum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25e53"/>
                  </a:gs>
                  <a:gs pos="50000">
                    <a:srgbClr val="6eccb6"/>
                  </a:gs>
                  <a:gs pos="100000">
                    <a:srgbClr val="325e53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 rot="5400000">
            <a:off x="5434920" y="3327480"/>
            <a:ext cx="5638680" cy="507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power piont made by: Marlee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600200" y="14479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Sheila - liar, not talented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Mouse - Very talente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Sheila’s parents - very nice, car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Libby (Sheila’s sister) - thinks she’s so beautifu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Jennifer (The dog)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28800" y="1066680"/>
            <a:ext cx="2921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03f75"/>
                    </a:gs>
                    <a:gs pos="50000">
                      <a:srgbClr val="6a89ff"/>
                    </a:gs>
                    <a:gs pos="100000">
                      <a:srgbClr val="303f75"/>
                    </a:gs>
                  </a:gsLst>
                  <a:lin ang="5400000"/>
                </a:gradFill>
                <a:latin typeface="Arial Black"/>
              </a:rPr>
              <a:t>Character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03f75"/>
                  </a:gs>
                  <a:gs pos="50000">
                    <a:srgbClr val="6a89ff"/>
                  </a:gs>
                  <a:gs pos="100000">
                    <a:srgbClr val="303f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36232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City where Sheila liv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Summ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Egran’s house in Tarrytown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971800" y="914400"/>
            <a:ext cx="1803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61b4e"/>
                    </a:gs>
                    <a:gs pos="50000">
                      <a:srgbClr val="bc3baa"/>
                    </a:gs>
                    <a:gs pos="100000">
                      <a:srgbClr val="561b4e"/>
                    </a:gs>
                  </a:gsLst>
                  <a:lin ang="5400000"/>
                </a:gradFill>
                <a:latin typeface="Arial Black"/>
              </a:rPr>
              <a:t>Set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61b4e"/>
                  </a:gs>
                  <a:gs pos="50000">
                    <a:srgbClr val="bc3baa"/>
                  </a:gs>
                  <a:gs pos="100000">
                    <a:srgbClr val="561b4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371600" y="2209320"/>
            <a:ext cx="6781680" cy="22100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Sheila is scared of swimming and cannot swi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Sheila is scared of dog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971800" y="914400"/>
            <a:ext cx="2463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484275"/>
                    </a:gs>
                    <a:gs pos="50000">
                      <a:srgbClr val="9d91ff"/>
                    </a:gs>
                    <a:gs pos="100000">
                      <a:srgbClr val="484275"/>
                    </a:gs>
                  </a:gsLst>
                  <a:lin ang="5400000"/>
                </a:gradFill>
                <a:latin typeface="Arial Black"/>
              </a:rPr>
              <a:t>Problem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484275"/>
                  </a:gs>
                  <a:gs pos="50000">
                    <a:srgbClr val="9d91ff"/>
                  </a:gs>
                  <a:gs pos="100000">
                    <a:srgbClr val="4842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heila takes swimming lesson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heila put her face face in water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heila could swim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47920" y="838080"/>
            <a:ext cx="3504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79741"/>
                  </a:solidFill>
                  <a:miter/>
                </a:ln>
                <a:gradFill rotWithShape="0">
                  <a:gsLst>
                    <a:gs pos="0">
                      <a:srgbClr val="665975"/>
                    </a:gs>
                    <a:gs pos="50000">
                      <a:srgbClr val="dec3ff"/>
                    </a:gs>
                    <a:gs pos="100000">
                      <a:srgbClr val="665975"/>
                    </a:gs>
                  </a:gsLst>
                  <a:lin ang="5400000"/>
                </a:gradFill>
                <a:latin typeface="Arial Black"/>
              </a:rPr>
              <a:t>1 Main Events</a:t>
            </a:r>
            <a:endParaRPr b="0" lang="en-US" sz="2400" spc="1" strike="noStrike">
              <a:ln w="9360">
                <a:solidFill>
                  <a:srgbClr val="679741"/>
                </a:solidFill>
                <a:miter/>
              </a:ln>
              <a:gradFill rotWithShape="0">
                <a:gsLst>
                  <a:gs pos="0">
                    <a:srgbClr val="665975"/>
                  </a:gs>
                  <a:gs pos="50000">
                    <a:srgbClr val="dec3ff"/>
                  </a:gs>
                  <a:gs pos="100000">
                    <a:srgbClr val="665975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heila is scared of dog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heila goes near Jennifer and then is now not scared of dog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66680" y="914400"/>
            <a:ext cx="3505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ff66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2 Main Events</a:t>
            </a:r>
            <a:endParaRPr b="0" lang="en-US" sz="2400" spc="1" strike="noStrike">
              <a:ln w="9360">
                <a:solidFill>
                  <a:srgbClr val="ccff66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When something is hard, you should put more effort lear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Ask for help when something is really har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38280" y="914400"/>
            <a:ext cx="4470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fcf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Author’s message</a:t>
            </a:r>
            <a:endParaRPr b="0" lang="en-US" sz="2400" spc="1" strike="noStrike">
              <a:ln w="9360">
                <a:solidFill>
                  <a:srgbClr val="ff6fcf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cKids"/>
              </a:rPr>
              <a:t>Tales </a:t>
            </a:r>
            <a:r>
              <a:rPr b="0" lang="en-US" sz="2800" spc="-1" strike="noStrike">
                <a:solidFill>
                  <a:srgbClr val="000000"/>
                </a:solidFill>
                <a:latin typeface="cusrs"/>
              </a:rPr>
              <a:t>of a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bcKids"/>
              </a:rPr>
              <a:t>Fourth Grade Nothing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cKids"/>
              </a:rPr>
              <a:t>Double Fudg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cKids"/>
              </a:rPr>
              <a:t>Fudge-</a:t>
            </a:r>
            <a:r>
              <a:rPr b="0" lang="en-US" sz="2800" spc="-1" strike="noStrike">
                <a:solidFill>
                  <a:srgbClr val="000000"/>
                </a:solidFill>
                <a:latin typeface="cusr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bcKids"/>
              </a:rPr>
              <a:t>-Mani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cKids"/>
              </a:rPr>
              <a:t>Super Fudg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96080" y="1676520"/>
            <a:ext cx="728640" cy="1120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400800" y="28954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hill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172200" y="3505320"/>
            <a:ext cx="1533600" cy="1676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791320" y="53341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2.scholastic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7400" y="914400"/>
            <a:ext cx="4952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fcf"/>
                  </a:solidFill>
                  <a:miter/>
                </a:ln>
                <a:gradFill rotWithShape="0">
                  <a:gsLst>
                    <a:gs pos="0">
                      <a:srgbClr val="fefefe"/>
                    </a:gs>
                    <a:gs pos="100000">
                      <a:srgbClr val="944262"/>
                    </a:gs>
                  </a:gsLst>
                  <a:lin ang="5400000"/>
                </a:gradFill>
                <a:latin typeface="Arial Black"/>
              </a:rPr>
              <a:t>Author Bibliography</a:t>
            </a:r>
            <a:endParaRPr b="0" lang="en-US" sz="2400" spc="1" strike="noStrike">
              <a:ln w="9360">
                <a:solidFill>
                  <a:srgbClr val="ff6fcf"/>
                </a:solidFill>
                <a:miter/>
              </a:ln>
              <a:gradFill rotWithShape="0">
                <a:gsLst>
                  <a:gs pos="0">
                    <a:srgbClr val="fefefe"/>
                  </a:gs>
                  <a:gs pos="100000">
                    <a:srgbClr val="94426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6:16:21Z</dcterms:created>
  <dc:creator>D83  User</dc:creator>
  <dc:description/>
  <dc:language>en-US</dc:language>
  <cp:lastModifiedBy>Default User</cp:lastModifiedBy>
  <dcterms:modified xsi:type="dcterms:W3CDTF">2010-12-06T16:09:58Z</dcterms:modified>
  <cp:revision>29</cp:revision>
  <dc:subject/>
  <dc:title>Otherwise Known as Sheila the Great Judy Blume</dc:title>
</cp:coreProperties>
</file>